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A7B-B474-4693-A144-EE42313AF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B67F-F039-497C-8AAD-CBA7B3D5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D9A-248F-4DC1-AEF6-5021C14F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59C-69D3-4A1D-A92D-8321CBAD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EBA-2C80-49CB-B141-F6801C4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4EF-DF84-4366-B0A7-17442C1B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C8B-A2D9-4944-9966-C8E74CBD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9C2-B79D-494F-AAA8-46FBF71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42C-0E49-47A0-BB67-90AFA363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943-8977-4F39-A601-ADB5CE3A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15E-AFDC-4DB3-A8CF-21C653E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9A8-4C8B-4D15-B9D1-EB975BAA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604-DDD3-49FB-A31B-2625B3CE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149-8F3B-4CD4-B1AE-0364248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D02-D172-49B8-AEC7-E9104FDF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Kiara Zapa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04840" y="4457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71360" y="51944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76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Kiara. Yo vivo en NYC. Yo soy catorce años. Tengo tres hermanas. Estoy buena y feli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71360" y="4761000"/>
            <a:ext cx="517680" cy="74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41320" y="5553000"/>
            <a:ext cx="530280" cy="762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76160" y="519444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52280" y="5541840"/>
            <a:ext cx="506520" cy="712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39680" y="5911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371600" y="4767120"/>
            <a:ext cx="476280" cy="798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7840"/>
            <a:ext cx="469800" cy="93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9600"/>
            <a:ext cx="573120" cy="81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980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8920"/>
            <a:ext cx="646200" cy="9320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22800"/>
            <a:ext cx="645840" cy="932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787320" y="4746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816480" y="60181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9" descr="C:\Documents and Settings\Beth\Desktop\291718_3499100816440_1116569674_n.jpg"/>
          <p:cNvPicPr/>
          <p:nvPr/>
        </p:nvPicPr>
        <p:blipFill>
          <a:blip r:embed="rId12"/>
          <a:stretch/>
        </p:blipFill>
        <p:spPr>
          <a:xfrm>
            <a:off x="84240" y="14479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Beth</cp:lastModifiedBy>
  <dcterms:modified xsi:type="dcterms:W3CDTF">2012-12-01T16:41:52Z</dcterms:modified>
  <cp:revision>104</cp:revision>
  <dc:subject/>
  <dc:title>Profile</dc:title>
</cp:coreProperties>
</file>